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DD2-02A8-4C9F-9F08-839EF107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454-A9E0-45C4-B562-26CDA27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94C-CD49-4C6A-BD9C-D024F37C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93C-01FA-4027-B881-2DB40FA2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D3A-C6DF-4126-A268-D1651D2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840-D8E7-40CC-B4E4-4C15138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69A-413F-439B-BB10-9A8BEC64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6EF-FF5A-4CB3-B995-35B7D50D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2A0-40BD-4124-9118-D7644403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9A7-296F-48C4-AFAD-0D73173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C74-59FB-4F8A-B49E-23A1B74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A98-CC83-4EEE-A39C-354A0FB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F92-DD55-461B-9BF1-51A251166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933-E3EC-4410-9CE7-FE982407F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4 Homework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yll is a green pigment found in chloroplast that is the primary catalyst of photosynthesis.  Chlorophyll is a molecule that absorbs light energy and the chlorophyll molecule loses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yll “a” molecule is responsible for converting most of the energy to chemical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500 to 600 nm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ct gree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 reaction- takes place on the thylakoid membrane.  Input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and Light.  The output is NADPH and ATP.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leased as was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vin Cycle – Takes place in the Stroma, input is NADH and ATP from the light reaction.  Nee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e atmosphere and output is 2 PGAL molecules (sugar).  ADP +P and NADP is released back for the light rx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AL is phosphoglyceraldehyde is a 3 carbon molecule (sugar) that is produced in the calvin cycle.  2 of these make a glucose molec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P is Ribulose Bisphosphate and it is the compound that is found in the calvin cycle.  It is found at the beginning and end of the calvin cyc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wavelengths and intensity of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cien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ough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thway the normal pathway and called this because a 3 carbon molecule is produced (PG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thway is the pathway of plants that open their stomata partially during the day.  They make a 4 carbon molecule instead of the 3 carbon molecule.  Ex. corn or crabg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 – Open their stomata at night and close during the day.  Ex. Pineapples and Ca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trophs – make their own food- ca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erotrophs – consume their food -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the fuel for our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enosine triphosph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phosph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s in the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         ADP + P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s the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4"/>
          <p:cNvCxnSpPr/>
          <p:nvPr/>
        </p:nvCxnSpPr>
        <p:spPr>
          <a:xfrm>
            <a:off x="1599840" y="1904760"/>
            <a:ext cx="686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has one more phosphate than AD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has more energy because it has more bonds and energy is in the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lysis is when a water molecule breaks a bond.  For example, making a polysaccharide a monosaccharid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hydration synthesis is when a water molecule is removed and combines molecule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sis is turning light energy into chemical energy (glucose) with the use of chloropl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6 CO2  + 6 H2O + Light           C6H12O6  +  6 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4"/>
          <p:cNvCxnSpPr/>
          <p:nvPr/>
        </p:nvCxnSpPr>
        <p:spPr>
          <a:xfrm>
            <a:off x="4723920" y="1904760"/>
            <a:ext cx="686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cientist that discovered the exact process of photosynthesis in 1950.  He earned a nobel prize for his research.   He used radioactive isotopes in Carbon and Oxygen to discover the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22:04:38Z</dcterms:created>
  <dc:creator>jcobb</dc:creator>
  <dc:description/>
  <dc:language>en-US</dc:language>
  <cp:lastModifiedBy>Jason Cobb</cp:lastModifiedBy>
  <dcterms:modified xsi:type="dcterms:W3CDTF">2012-11-04T22:07:11Z</dcterms:modified>
  <cp:revision>6</cp:revision>
  <dc:subject/>
  <dc:title>Chapter 4 Homework Questions</dc:title>
</cp:coreProperties>
</file>